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3F41-DEA5-47BB-B4DA-DC8B54B4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1959-7737-4133-A867-7DE15266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10C9-3FB3-41EB-A1AC-D766DA16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1477-C04E-40E3-BE5B-0557BBA0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C731-C88C-4219-ADD4-36882F81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8984-1FC4-4146-B1FA-1A288DF1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8CEB-42FC-403C-8AA2-07D779B2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7D2A-74FB-48CA-95F2-635A6791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220A-C0A0-45FE-94DA-CAA59359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79F7-043A-4851-AC58-DA3F4BEC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F675-AB98-4DAB-8853-B45A1CF7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6374-8BFB-480B-9966-B1E3AC57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CE5D-BF54-4CF8-A94F-87CD2DE6F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923000" cy="971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5029200" cy="887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0880" y="2666880"/>
            <a:ext cx="6248520" cy="14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763120" cy="2271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71600" y="2057400"/>
            <a:ext cx="1447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1981080"/>
            <a:ext cx="10666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86600" y="198108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3059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076960" cy="2274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828800"/>
            <a:ext cx="17528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1828800"/>
            <a:ext cx="1905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53080" y="1828800"/>
            <a:ext cx="16765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022640" cy="66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876312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685800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473800" cy="6019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124080" y="1905120"/>
            <a:ext cx="10670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3429000"/>
            <a:ext cx="21333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5334120"/>
            <a:ext cx="1447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2:41:34Z</dcterms:created>
  <dc:creator>grahams</dc:creator>
  <dc:description/>
  <dc:language>en-US</dc:language>
  <cp:lastModifiedBy>grahams</cp:lastModifiedBy>
  <dcterms:modified xsi:type="dcterms:W3CDTF">2012-03-20T14:14:40Z</dcterms:modified>
  <cp:revision>3</cp:revision>
  <dc:subject/>
  <dc:title>Slide 1</dc:title>
</cp:coreProperties>
</file>